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4771-20B5-4A8B-8B06-7168D4D70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5552-7FE4-4838-9606-F097B23C3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1FD4-D778-4410-A31A-F16460A17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C670-74AF-44A3-8911-19A953417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6134E-1499-4CD7-BB67-C8D477B3E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CD33-1A27-481A-8811-170B4736F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54C7-A6F4-4A07-8835-037187AF2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B0A8-4B2A-4178-8099-CC5DEC4BA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A126-0592-49D1-BE0A-EC9CD726C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0A2E-66F0-42C7-B9E5-21B82C130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45A8-541E-4C1A-92E4-0264ABD2E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8725-5236-462E-A38A-D4702E65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528C-DA17-4847-BB22-846A988E2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73D0-01DC-4E8A-AE3B-CE76AAF9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8DC5-6A35-416B-A240-DE5CB7B05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CDBE-790E-43F8-904F-EDDC3ACE5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9DD9-76A4-4B0A-AA35-E825939B9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661F-BA03-4BBE-B51A-2E9A7CD85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F61A-0C01-4515-BAF8-20AEFF013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EE51-3758-4A21-9B29-9BB90B852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46B3-D32E-4E68-9FDB-CE4E30112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2337-AC50-4792-863C-430CB320F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9A62-60FE-4082-99F0-C2FCD7FB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C077-5C73-4626-9F4C-0842CACCB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800A-5BA2-4C47-9FCF-3409305ED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483-6C9E-4D4A-8232-3117B8E7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647-48D8-46CB-B616-9CD26798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E95-8289-46E8-A184-F8665633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E396-17EC-46BB-9D20-AB98F2F4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DC05-BDC4-4608-A18B-BF777D9E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225F-CE92-4180-8280-903E1F16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455A-6E1D-44A8-8F59-70DB1450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2EB7-D4E1-4D1C-88B0-764C4179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3031-9438-492E-B184-7D0C0BF0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A518-FECC-4D9F-A03E-A4A1F88F8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95E5-980E-4EC4-B9A8-458B7AFE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9AA-9EE5-4346-8360-FEEEA7DC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0347-3A02-42DA-A581-38110B74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DBD4-B211-4583-8E0C-119BABED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B333-F3A0-4614-91B3-32E56BD0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7FCB-DD47-4876-A248-3AE925E1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6930-FC32-401A-AAD8-86BDC0A9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9872B-1A43-4BD1-87DD-AF5D730A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CE32-DF1A-4DC2-9268-AB9DC512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E15DC-EDDB-47F9-B607-A25AB929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4B22A-2426-490F-B59D-492630E2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4740D-BE9A-400B-A5FF-4A82E093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74C-4619-431A-B987-DF8E15BF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CB560-2243-439C-98C5-5C7B5698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F99A0-0A33-4A0B-9F97-E8936A6C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1170D-183D-4C9E-BE82-0F99BF01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54F07-4634-40E0-81C0-642DB63F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4633E-2F49-488C-92AF-4CD3A4E8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7EE44-65CF-443B-8D3B-053AC4EF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A023D-90D8-4671-9BFF-AC2E92BA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132-3541-4D31-BA6B-800250CF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64E-A20B-453D-800F-6C0AFAA5A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52E-2E71-420A-AC4D-0591E2C7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082B-129B-4FF3-8A2F-5F56E83F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8AC-F100-4AEE-B13C-8F8F4B73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AD1-3FD0-4838-A46A-924F265A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B173-5C9A-41D9-A800-F2B6B7EB05F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C747-7CF2-4536-9E92-846AFA5D4E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20AF-BDD6-4906-ABB1-F1BC899655A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s 1 -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c Issues in Environmental Sc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Systems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6993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boseli National Park (case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hat happened and whose fault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os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1680" y="151920"/>
            <a:ext cx="8540640" cy="59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 respons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egative 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ost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n increase in s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will lead to an eventu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that output - stabiliz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1680" y="30456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sitive 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output incre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s to more output incre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roblem intensif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Climate Chang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ich feedback system will domina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6419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+ Positive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- Nega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 Changes and Equilib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eple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larger than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-4752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1680" y="22860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row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smaller than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s on harvest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eady St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=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able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ural and Human Impacts on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natural disturbances tend to be in balance and life has often co-evolved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importa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ays in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s to change not always immed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non-linear, effects not seen for a wh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seen, may be difficult to cor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uman activity is beginning to affect environment global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 growth = underlying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ustainable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ence Ti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8423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Pollu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 flow through (short A.R.T.) affects system quickly but recovers quickly if problem remed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1320" y="457200"/>
            <a:ext cx="731844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flow through (long A.R.T.) takes a longer time to show effects but longer to recover even after problem remed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775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affects everything els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in one part of system has multiple effects in that system and other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formitari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s happening in the present were also happening in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gnitude and frequency of events may vary over time, but the processes are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th and all  living things are part of a sing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greatly affects the system and regulates the planetary environment to help sustai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Environ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1680" y="121932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tilitar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cological jus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esthe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cautionary Pri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re is a global threat of serious or maybe irreversible environmental damag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not wait till all the scientific evidence is in before taking steps to prevent the potential problem from occ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Coral Reef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reatens Th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Knowledge is Critic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a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science i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785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4:29:50Z</dcterms:created>
  <dc:creator>tosborne</dc:creator>
  <dc:description/>
  <dc:language>en-US</dc:language>
  <cp:lastModifiedBy>Teri Osborne</cp:lastModifiedBy>
  <dcterms:modified xsi:type="dcterms:W3CDTF">2011-09-04T18:45:31Z</dcterms:modified>
  <cp:revision>22</cp:revision>
  <dc:subject/>
  <dc:title>Basic Issues in Environmental Science</dc:title>
</cp:coreProperties>
</file>